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741-228B-41A4-80A2-74FF5A2F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5A8-6B03-4E4B-AB8A-6CFEEC5B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2F1-5BF2-4350-8440-2BE70816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781-4230-4BC9-A3DC-F7F91DFE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053C-7AA6-478B-9E50-C54BE1FD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6BF3-89B6-4C34-9B56-517D90FC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4E98-E0E0-40B1-8FCA-362E3C29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83F9-2782-44CB-9D3B-C7DCBEF4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7CD9-5851-4752-BEA9-FADCA268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D325-52F3-4FC8-BC55-E658C0A8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B7D6-FC42-44A2-82CB-E8D31CD3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1A7-E19A-4A95-96E1-B961488E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97B8-6029-4F57-906D-E9CBFFB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72D2-0954-45D8-ADE3-B5D5D745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9E61-BAE6-488B-B9D3-E08FFE2A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7B9D-3448-4A5E-B5F6-F704A74E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90BF-AA5C-4CC1-B5F8-8273242E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F67-9BC1-4A55-9B34-F9E7E4A9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915-BBDF-4179-9AFE-94010022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94A-DC95-46FD-A557-A3C00633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D29-E099-4C75-AF05-92F5AF38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7DF-3E82-4406-8C03-198AA309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3CF-8102-4859-AEC3-72A30FDE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8AE-BBBD-4503-BFF4-4180E5BA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bd7ce"/>
              </a:gs>
              <a:gs pos="100000">
                <a:srgbClr val="b2bdb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8DA2-7AC1-4173-B9D6-909787C303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EF5B-8188-467E-BFBB-92B029A9B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8D76-1016-45B1-A32E-396608F4389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6804-DF7E-45B0-BB83-91A3CC77BC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7d80"/>
                </a:solidFill>
                <a:uFillTx/>
                <a:latin typeface="Arial"/>
              </a:rPr>
              <a:t>БЮДЖЕТ ОСИННИКОВСКОГО ГОРОДСКОГО ОКРУГА НА 2016 ГОД</a:t>
            </a:r>
            <a:endParaRPr b="0" lang="en-US" sz="3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4005360"/>
            <a:ext cx="770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ормативно правовой ак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шение совета народных депутатов Осинниковского городского округа №184-МНА от 11 декабря 2015 года «О бюджете муниципального образования Осинниковский городской округ на 2016 го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</a:t>
            </a:r>
            <a:br>
              <a:rPr sz="2800"/>
            </a:b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1 405 177,5 тыс.руб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2" name="Диаграмма 7" descr=""/>
          <p:cNvPicPr/>
          <p:nvPr/>
        </p:nvPicPr>
        <p:blipFill>
          <a:blip r:embed="rId1"/>
          <a:stretch/>
        </p:blipFill>
        <p:spPr>
          <a:xfrm>
            <a:off x="212760" y="1359000"/>
            <a:ext cx="87184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 в рамках муниципальных программ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4" name="Диаграмма 7" descr=""/>
          <p:cNvPicPr/>
          <p:nvPr/>
        </p:nvPicPr>
        <p:blipFill>
          <a:blip r:embed="rId1"/>
          <a:stretch/>
        </p:blipFill>
        <p:spPr>
          <a:xfrm>
            <a:off x="0" y="785880"/>
            <a:ext cx="90043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Диаграмма 4" descr=""/>
          <p:cNvPicPr/>
          <p:nvPr/>
        </p:nvPicPr>
        <p:blipFill>
          <a:blip r:embed="rId1"/>
          <a:stretch/>
        </p:blipFill>
        <p:spPr>
          <a:xfrm>
            <a:off x="285840" y="1212840"/>
            <a:ext cx="8572320" cy="55227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285840" y="142920"/>
            <a:ext cx="8643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a6551"/>
                </a:solidFill>
                <a:latin typeface="Arial"/>
              </a:rPr>
              <a:t>Источники внутреннего финансирования дефицита бюдже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d80"/>
                </a:solidFill>
                <a:latin typeface="Arial"/>
              </a:rPr>
              <a:t>Основные характеристики бюджета муниципального образования – Осинниковский городской округ</a:t>
            </a:r>
            <a:endParaRPr b="0" lang="en-US" sz="2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доходов бюджета городского округа в сумме    1 262 588,3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расходов бюджета городского округа в сумме  1 405 177,5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фицит бюджета городского округа в сумме  142 589,2 тыс. руб., с учетом разницы между полученным и погашенным бюджетным кредитом, предоставленным местному бюджету из субъекта Российской Федер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5000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Основные</a:t>
            </a:r>
            <a:r>
              <a:rPr b="1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 понятия бюдж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БЮДЖЕТ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О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РАС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Е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ПРО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4a6551"/>
                </a:solidFill>
                <a:latin typeface="Arial"/>
              </a:rPr>
              <a:t>ДОХОДЫ</a:t>
            </a:r>
            <a:r>
              <a:rPr b="1" i="1" lang="en-US" sz="3400" spc="-1" strike="noStrike">
                <a:solidFill>
                  <a:srgbClr val="4a6551"/>
                </a:solidFill>
                <a:latin typeface="Arial"/>
              </a:rPr>
              <a:t> БЮДЖЕТА </a:t>
            </a:r>
            <a:endParaRPr b="0" lang="en-US" sz="3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18" name="Диаграмма 9" descr=""/>
          <p:cNvPicPr/>
          <p:nvPr/>
        </p:nvPicPr>
        <p:blipFill>
          <a:blip r:embed="rId1"/>
          <a:stretch/>
        </p:blipFill>
        <p:spPr>
          <a:xfrm>
            <a:off x="139680" y="1139760"/>
            <a:ext cx="87184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Диаграмма 4" descr=""/>
          <p:cNvPicPr/>
          <p:nvPr/>
        </p:nvPicPr>
        <p:blipFill>
          <a:blip r:embed="rId1"/>
          <a:stretch/>
        </p:blipFill>
        <p:spPr>
          <a:xfrm>
            <a:off x="0" y="1212840"/>
            <a:ext cx="8358120" cy="5359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785880" y="35712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орматив отчислений от нал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а доходы физических л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Структура доходов на 2016 год</a:t>
            </a:r>
            <a:endParaRPr b="0" lang="en-US" sz="32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2" name="Диаграмма 5" descr=""/>
          <p:cNvPicPr/>
          <p:nvPr/>
        </p:nvPicPr>
        <p:blipFill>
          <a:blip r:embed="rId1"/>
          <a:stretch/>
        </p:blipFill>
        <p:spPr>
          <a:xfrm>
            <a:off x="360360" y="1450800"/>
            <a:ext cx="82836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налоговых и неналоговых доходов</a:t>
            </a:r>
            <a:br>
              <a:rPr sz="2800"/>
            </a:b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на 2016 год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4" name="Диаграмма 7" descr=""/>
          <p:cNvPicPr/>
          <p:nvPr/>
        </p:nvPicPr>
        <p:blipFill>
          <a:blip r:embed="rId1"/>
          <a:stretch/>
        </p:blipFill>
        <p:spPr>
          <a:xfrm>
            <a:off x="0" y="1073160"/>
            <a:ext cx="91440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Диаграмма 11"/>
          <p:cNvGraphicFramePr/>
          <p:nvPr/>
        </p:nvGraphicFramePr>
        <p:xfrm>
          <a:off x="571680" y="928800"/>
          <a:ext cx="792936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Диаграмма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28800"/>
                    <a:ext cx="7929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Прямоугольник 2"/>
          <p:cNvSpPr/>
          <p:nvPr/>
        </p:nvSpPr>
        <p:spPr>
          <a:xfrm>
            <a:off x="428760" y="1429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ЕЗВОЗМЕЗДНЫЕ ПОСТУПЛЕНИЯ ОТ ДРУГ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ЮДЖЕТОВ БЮДЖЕТНОЙ СИСТЕМЫ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РАСХОДЫ БЮДЖЕТА</a:t>
            </a:r>
            <a:br>
              <a:rPr sz="2800"/>
            </a:br>
            <a:r>
              <a:rPr b="0" i="1" lang="en-US" sz="2400" spc="-1" strike="noStrike">
                <a:solidFill>
                  <a:srgbClr val="5b7662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071800" y="1214280"/>
            <a:ext cx="4924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Диаграмма 10" descr=""/>
          <p:cNvPicPr/>
          <p:nvPr/>
        </p:nvPicPr>
        <p:blipFill>
          <a:blip r:embed="rId1"/>
          <a:stretch/>
        </p:blipFill>
        <p:spPr>
          <a:xfrm>
            <a:off x="426960" y="1712880"/>
            <a:ext cx="81676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ревизор</cp:lastModifiedBy>
  <dcterms:modified xsi:type="dcterms:W3CDTF">2017-04-04T04:06:48Z</dcterms:modified>
  <cp:revision>116</cp:revision>
  <dc:subject/>
  <dc:title>Слайд 1</dc:title>
</cp:coreProperties>
</file>